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611-0A68-44AC-886A-89E823A4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BF4-C937-4BFC-BA52-AC003D0B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4B2-BCD6-4246-BD86-24D010C3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96B-DE0D-4E24-80AE-7B9E9497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98B-F60C-48D7-818B-0165FCA2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C13-DDF2-4A1D-BA27-A3468CF2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246-D104-4D35-A5F0-21E28AB5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2FB-2E18-4904-9A1A-1E62FFE6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199-BC05-4F60-A9DB-406FBB95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B22-4A79-455D-9458-AD895D2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445-F901-4D61-B990-DB46634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46E-53F2-4379-8679-1042ACF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7B72-8082-4E41-AD7D-C23A0E971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and 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Particle Theory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atter is made of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rticles have spaces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s are always i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icles in a substance are attracted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ids, Liquids and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572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toms, Elements, Molecules and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9152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ll Matter is made of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assifying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52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35:39Z</dcterms:created>
  <dc:creator>User</dc:creator>
  <dc:description/>
  <dc:language>en-US</dc:language>
  <cp:lastModifiedBy>User</cp:lastModifiedBy>
  <dcterms:modified xsi:type="dcterms:W3CDTF">2010-09-14T12:27:09Z</dcterms:modified>
  <cp:revision>5</cp:revision>
  <dc:subject/>
  <dc:title>Classification of Matter</dc:title>
</cp:coreProperties>
</file>